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image27.wmf" ContentType="image/x-wmf"/>
  <Override PartName="/ppt/media/image4.wmf" ContentType="image/x-wmf"/>
  <Override PartName="/ppt/media/image24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30.jpeg" ContentType="image/jpeg"/>
  <Override PartName="/ppt/media/image7.wmf" ContentType="image/x-wmf"/>
  <Override PartName="/ppt/media/image29.jpeg" ContentType="image/jpeg"/>
  <Override PartName="/ppt/media/image10.jpeg" ContentType="image/jpeg"/>
  <Override PartName="/ppt/media/image11.gif" ContentType="image/gif"/>
  <Override PartName="/ppt/media/image6.wmf" ContentType="image/x-wmf"/>
  <Override PartName="/ppt/media/image19.jpeg" ContentType="image/jpeg"/>
  <Override PartName="/ppt/media/image20.gif" ContentType="image/gif"/>
  <Override PartName="/ppt/media/image13.jpeg" ContentType="image/jpeg"/>
  <Override PartName="/ppt/media/image3.gif" ContentType="image/gif"/>
  <Override PartName="/ppt/media/image1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18.png" ContentType="image/png"/>
  <Override PartName="/ppt/media/image21.wmf" ContentType="image/x-wmf"/>
  <Override PartName="/ppt/media/image22.wmf" ContentType="image/x-wmf"/>
  <Override PartName="/ppt/media/image25.jpeg" ContentType="image/jpeg"/>
  <Override PartName="/ppt/media/image26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CEF-BA29-4530-823C-C8846FEA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A7A-2D49-4D7E-B324-FA60E4C2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5D2-434B-42A6-9E8B-7E3C10E4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6FE-AF6A-42E5-AF78-F4FD14D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946A-0C07-4FAF-AB05-9B1ED7F3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8A39-3AA8-4E2F-B358-661B0F4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8C7-B34C-471C-A9E9-7066797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3780-3545-4229-AF68-9085D58E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6E93-FD73-451F-9DCD-554F9BFD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A12B-6A4C-4172-B9E5-1E1B23F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B89F-EA25-4A57-8F18-D689187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26D-7FA6-4BAC-B528-BD00DFC0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E804-3017-4D35-904F-0875E63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4E1A-2215-4D0A-8EFE-2BFDD2D2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D77-E1DC-49B5-A92D-B53B0E0D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8E8-3BA7-4141-857C-49B6E790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B1C9-E162-45F0-8EBC-E43AC08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F4A3-646D-4621-9BB8-AE8BEFD8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1A17-3788-49DA-BA52-4E762E61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F0C49-2FDF-4171-9497-7FB4C09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48BB-455A-44ED-AF7D-ADEB8A6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7475-E54D-4FE7-902E-D74F7A6C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79E-EC35-490C-91AE-9942BDE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2E75-C896-4D33-BCB2-372934A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49E8-EF57-46E3-B8D8-498EE367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2087-D5FC-49E8-9C35-1E425BE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9927-90E0-4E6D-A213-86C553B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0F0E-C4E1-41BB-8318-09B0B895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DC99-06EF-4948-AABD-3FC9F4D8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7F72-C442-4C3B-9816-B09CF227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F730-B2E0-4BD7-893C-94D15328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AC4F-B240-4712-B191-55F2046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3D92-599C-467B-B5E7-7EEC563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A08-3949-487F-A6B1-9720EB87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09F7-7905-491B-ABB7-66CBD3C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15BD-4A44-45F1-9BFD-1636B770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F9F1-1B55-48C8-A7EA-3ABB8873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A24B-9F0E-41B5-BA04-E5C0FF7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243C-6619-4026-8DB8-E7FCA35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A85F-6B45-4C96-B83B-D1BE70D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C2A6-7FE6-45EC-9FB4-F64CB77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FE79-8669-4DF5-9594-E15D7D8A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85A1-80F7-4920-9B7A-93A5D313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9CF-9339-4559-97DB-69FEECA5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0BA-CCBF-4C2B-9CD0-B843E0C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5E2-BCE0-49FB-A8D5-B91E299C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010-D09E-45AC-AF18-BE9EB53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C53-BFF2-42B4-B9F8-B77F2C7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95F-4A9A-4D64-BEE7-BB00F47FFFA5}" type="slidenum">
              <a:rPr b="0" lang="ru-RU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9" name="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314-94F5-49D0-AEA0-A5775B681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99ff">
                  <a:alpha val="50196"/>
                </a:srgbClr>
              </a:gs>
              <a:gs pos="100000">
                <a:srgbClr val="005e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726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BF9-51DA-4E4F-B024-8422EDCBEC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5e9d"/>
              </a:gs>
              <a:gs pos="50000">
                <a:srgbClr val="0099ff">
                  <a:alpha val="50196"/>
                </a:srgbClr>
              </a:gs>
              <a:gs pos="100000">
                <a:srgbClr val="005e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1726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3AB-A20A-4425-A97B-1877F2AC95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image" Target="../media/image20.gif"/><Relationship Id="rId34" Type="http://schemas.openxmlformats.org/officeDocument/2006/relationships/image" Target="../media/image1.png"/><Relationship Id="rId3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.wmf"/><Relationship Id="rId2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" Target="slide4.xml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4.xml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249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629080" y="1628640"/>
            <a:ext cx="6335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Урок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русского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язы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94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3743280" cy="2770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184640" cy="4392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248000" cy="3648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1332000" y="1773360"/>
            <a:ext cx="4824360" cy="3524040"/>
            <a:chOff x="1332000" y="1773360"/>
            <a:chExt cx="4824360" cy="352404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332000" y="1773360"/>
              <a:ext cx="4824360" cy="35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0000" y="1773360"/>
              <a:ext cx="187164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11280" y="765000"/>
            <a:ext cx="799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епляй-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520" y="914400"/>
            <a:ext cx="62866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42920" y="404640"/>
            <a:ext cx="6985080" cy="1800360"/>
          </a:xfrm>
          <a:prstGeom prst="rect">
            <a:avLst/>
          </a:prstGeom>
          <a:solidFill>
            <a:srgbClr val="58b1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исать имена  существительные в единственном чис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делить  изученную орфограмму, определить  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рачи, товарищи, ночи,  сторожа, силач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87280" y="2565360"/>
            <a:ext cx="6913800" cy="1800360"/>
          </a:xfrm>
          <a:prstGeom prst="rect">
            <a:avLst/>
          </a:prstGeom>
          <a:solidFill>
            <a:srgbClr val="fa5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обрать к словам  близкие по смыслу имена  существитель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шипящими на конце, выделить орфограмму и указать 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Доктор, друг, тьма, охранник, бога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4653000"/>
            <a:ext cx="6913800" cy="18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овать от данных слов  имена  существительные  в ед.ч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делить орфограмму и указать 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обрать к данным словам однокоренные сл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шипящими на ко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рачевать, товарищеский,  ночной, сторожит, си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45440" y="6122880"/>
            <a:ext cx="898560" cy="7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58200" y="1828800"/>
            <a:ext cx="380880" cy="609480"/>
          </a:xfrm>
          <a:custGeom>
            <a:avLst/>
            <a:gdLst>
              <a:gd name="textAreaLeft" fmla="*/ 156960 w 380880"/>
              <a:gd name="textAreaRight" fmla="*/ 223920 w 3808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6351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843280" y="33336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яй-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31600" y="1935000"/>
            <a:ext cx="49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     Врач        Вра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29800" y="2852640"/>
            <a:ext cx="55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Товарищ   Товари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32680" y="3807000"/>
            <a:ext cx="49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     Ноч             Но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33040" y="4743360"/>
            <a:ext cx="58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Сторожь      Сторож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31960" y="5751360"/>
            <a:ext cx="53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   Силач         Сила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851280" y="2492280"/>
          <a:ext cx="152280" cy="1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92280"/>
                    <a:ext cx="15228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643280" y="6308640"/>
          <a:ext cx="152640" cy="1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630864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09680" y="457200"/>
          <a:ext cx="152640" cy="1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5720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648320" y="380880"/>
          <a:ext cx="152280" cy="1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0880"/>
                    <a:ext cx="15228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202520" y="1379520"/>
          <a:ext cx="152280" cy="13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02520" y="1379520"/>
                    <a:ext cx="15228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8459640" y="5373720"/>
          <a:ext cx="152640" cy="13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59640" y="537372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602320" y="922320"/>
          <a:ext cx="152280" cy="13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02320" y="922320"/>
                    <a:ext cx="15228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040600" y="846000"/>
          <a:ext cx="152640" cy="13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40600" y="84600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484360" y="5373720"/>
          <a:ext cx="152640" cy="138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4360" y="537372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940360" y="5950080"/>
          <a:ext cx="152640" cy="13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40360" y="5950080"/>
                    <a:ext cx="152640" cy="13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884160" y="4267080"/>
          <a:ext cx="152640" cy="138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84160" y="4267080"/>
                    <a:ext cx="15264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916360" y="3716280"/>
          <a:ext cx="152280" cy="138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16360" y="3716280"/>
                    <a:ext cx="152280" cy="1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042920" y="6237360"/>
          <a:ext cx="123840" cy="110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6237360"/>
                    <a:ext cx="123840" cy="11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140360" y="1700280"/>
          <a:ext cx="123840" cy="110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40360" y="1700280"/>
                    <a:ext cx="123840" cy="11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50720" y="811080"/>
          <a:ext cx="123840" cy="111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0720" y="811080"/>
                    <a:ext cx="123840" cy="1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50920" y="2781360"/>
          <a:ext cx="123840" cy="111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0920" y="2781360"/>
                    <a:ext cx="123840" cy="1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33"/>
          <a:stretch/>
        </p:blipFill>
        <p:spPr>
          <a:xfrm>
            <a:off x="1619280" y="476280"/>
            <a:ext cx="6481800" cy="6481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4"/>
          <a:stretch/>
        </p:blipFill>
        <p:spPr>
          <a:xfrm>
            <a:off x="-3049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8194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666880" y="1523880"/>
          <a:ext cx="367524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367524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2441520" y="457200"/>
            <a:ext cx="405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Bodoni MT Black"/>
              </a:rPr>
              <a:t>Правильно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720" y="5257800"/>
            <a:ext cx="37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66"/>
                </a:solidFill>
                <a:latin typeface="Arial Black"/>
              </a:rPr>
              <a:t>МОЛОД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236000" y="5516640"/>
            <a:ext cx="1908000" cy="1341360"/>
            <a:chOff x="7236000" y="5516640"/>
            <a:chExt cx="1908000" cy="1341360"/>
          </a:xfrm>
        </p:grpSpPr>
        <p:sp>
          <p:nvSpPr>
            <p:cNvPr id="305" name="">
              <a:hlinkClick r:id="rId3" action="ppaction://hlinksldjump"/>
            </p:cNvPr>
            <p:cNvSpPr/>
            <p:nvPr/>
          </p:nvSpPr>
          <p:spPr>
            <a:xfrm>
              <a:off x="7236000" y="5516640"/>
              <a:ext cx="1908000" cy="134136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7348320" y="5665320"/>
              <a:ext cx="1683360" cy="10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ЖМ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3990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755640" y="386064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нига Зна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86200" y="4724280"/>
          <a:ext cx="52236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724280"/>
                    <a:ext cx="522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3520" y="228600"/>
          <a:ext cx="3474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28600"/>
                    <a:ext cx="347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8001000" y="380880"/>
          <a:ext cx="40464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1000" y="380880"/>
                    <a:ext cx="404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6095880"/>
          <a:ext cx="28908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6095880"/>
                    <a:ext cx="289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8686800" y="3809880"/>
          <a:ext cx="84240" cy="76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686800" y="3809880"/>
                    <a:ext cx="8424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809880" y="914400"/>
          <a:ext cx="84240" cy="76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09880" y="914400"/>
                    <a:ext cx="8424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419720" y="1523880"/>
          <a:ext cx="83880" cy="76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19720" y="1523880"/>
                    <a:ext cx="838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209680" y="457200"/>
          <a:ext cx="84240" cy="76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09680" y="457200"/>
                    <a:ext cx="8424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8305920" y="2666880"/>
          <a:ext cx="83880" cy="76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305920" y="2666880"/>
                    <a:ext cx="838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952880" y="4876920"/>
          <a:ext cx="84240" cy="75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2880" y="4876920"/>
                    <a:ext cx="8424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9524880" y="121932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48320" y="380880"/>
          <a:ext cx="83880" cy="76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648320" y="380880"/>
                    <a:ext cx="838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882-2F74-4EAF-9671-AD0574E12BE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97B6-4ADD-4045-A10B-3357924512D4}" type="datetime1">
              <a:rPr lang="en-US"/>
              <a:t>07/29/26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35600" y="243000"/>
            <a:ext cx="44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Bodoni MT Black"/>
              </a:rPr>
              <a:t>Невер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093080" y="5445000"/>
            <a:ext cx="2050920" cy="1412640"/>
            <a:chOff x="7093080" y="5445000"/>
            <a:chExt cx="2050920" cy="1412640"/>
          </a:xfrm>
        </p:grpSpPr>
        <p:sp>
          <p:nvSpPr>
            <p:cNvPr id="309" name="">
              <a:hlinkClick r:id="" action="ppaction://hlinkshowjump?jump=previousslide"/>
            </p:cNvPr>
            <p:cNvSpPr/>
            <p:nvPr/>
          </p:nvSpPr>
          <p:spPr>
            <a:xfrm>
              <a:off x="7093080" y="5445000"/>
              <a:ext cx="2050920" cy="141264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7213680" y="5601600"/>
              <a:ext cx="1809360" cy="109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ЖМ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286000" y="1600200"/>
          <a:ext cx="464976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64976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олодное оружие с обоюдоострым длинным прямым клинк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7380360" y="5157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2779920" cy="2808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140360" y="3716280"/>
            <a:ext cx="3112920" cy="233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763640" y="333360"/>
            <a:ext cx="518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способление для обливания мелкими струйками в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211640" y="3213000"/>
            <a:ext cx="3797280" cy="2454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738036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60720" y="260280"/>
            <a:ext cx="345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уш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3640" y="1981080"/>
            <a:ext cx="6119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ровое растение с мелкими чешуйчатыми листьями, сросшимися в трубк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89040" cy="355428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340000" y="404640"/>
            <a:ext cx="331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вощ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струмент для резания, состоящий из лезвия и ручки, а также режущая часть инструмент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724360" y="3573360"/>
            <a:ext cx="2127240" cy="131472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rId2" action="ppaction://hlinksldjump"/>
          </p:cNvPr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987640" y="333360"/>
            <a:ext cx="3095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ность говорить, говор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27280" cy="2252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484360" y="333360"/>
            <a:ext cx="324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ч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ешнее великолеп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916360" y="333360"/>
            <a:ext cx="316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скош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гущество, сил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56000" y="333360"/>
            <a:ext cx="316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лак, из молотых зере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торого выпекают черный хле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2148120" cy="161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2090880" cy="3120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53240" y="5373720"/>
            <a:ext cx="1490760" cy="12970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16000" y="260280"/>
            <a:ext cx="410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ж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647712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традь наклонно полож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учку правильно держ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 посадкою слеж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 чистотою я друж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 «отлично» напиш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640720" y="623736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55640" y="-57240"/>
            <a:ext cx="7920000" cy="687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93827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59280" y="1628640"/>
            <a:ext cx="1439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443640" y="1916280"/>
            <a:ext cx="1619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уш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27280" y="3500280"/>
            <a:ext cx="17146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щ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3280" y="692280"/>
            <a:ext cx="1440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ч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348000" y="551664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кош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93080" y="3213000"/>
            <a:ext cx="1439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ж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59640" y="5084640"/>
            <a:ext cx="1439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ж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9280" y="3789360"/>
            <a:ext cx="16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во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4292640" cy="2676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36720" y="4221000"/>
            <a:ext cx="20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. 170 - 17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900000" y="1197000"/>
            <a:ext cx="76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6719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11280" y="765000"/>
            <a:ext cx="799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епляй-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671640" cy="2744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59280" y="83664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56:36Z</dcterms:created>
  <dc:creator>comp9</dc:creator>
  <dc:description/>
  <dc:language>en-US</dc:language>
  <cp:lastModifiedBy>GEG</cp:lastModifiedBy>
  <dcterms:modified xsi:type="dcterms:W3CDTF">2007-02-17T08:24:09Z</dcterms:modified>
  <cp:revision>54</cp:revision>
  <dc:subject/>
  <dc:title>Слайд 1</dc:title>
</cp:coreProperties>
</file>